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4D3F-8373-4EAE-B51C-0C19AA5A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0D7-7523-4B46-9181-699884B8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2AD-3820-4421-B7E6-BFCADBC1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CD9-06EF-43A8-ACDE-AF1B0829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650A-93E8-4271-83DC-19287208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5DF1-F44E-4911-AFEA-C4DC6AB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CE39-E6D2-4715-A943-243594E5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A266-902A-4622-A5BD-1A698DA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C0D1-5E17-47F4-86A2-5A3774A8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C0BE-DE62-408A-A4DF-25AE7AA4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A35D-9660-408B-9173-FA6454AF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FD78-6D61-40D8-B2BE-C1459C77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B4E0-2E6A-4C97-82AA-8FEEA43E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DA9E-F5F0-432F-B819-215086A4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B296-2821-4ED2-92E1-438E4741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9D24F-6AF3-4FB6-AC13-83B84011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B277-1A64-4298-9F05-010999F75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517-3EE7-48E7-A1AD-F637760C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2990-B610-4AD2-B1A0-A96EF9B8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4C5-D765-4CE1-AE10-EDA8F84B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966-17D4-4448-9341-D56E955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5ADD-2CB9-43B3-B41E-B722E028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1D30-1C05-44C1-83A6-411BFB21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B86-7F38-4226-A18C-8F3014D7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FEB10-D932-4B4A-A735-CFF0BB30DC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0643-1BF3-46DA-90D8-D751B847CE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1;&#1080;&#1097;&#1085;&#1099;&#1077;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hyperlink" Target="http://ru.wikipedia.org/wiki/&#1050;&#1088;&#1072;&#1089;&#1085;&#1072;&#1103;_&#1082;&#1085;&#1080;&#1075;&#1072;_&#1056;&#1086;&#1089;&#1089;&#1080;&#1080;" TargetMode="External"/><Relationship Id="rId4" Type="http://schemas.openxmlformats.org/officeDocument/2006/relationships/hyperlink" Target="http://ru.wikipedia.org/wiki/&#1064;&#1072;&#1073;&#1083;&#1086;&#1085;:&#1044;&#1086;&#1084;&#1072;&#1096;&#1085;&#1080;&#1077;_&#1078;&#1080;&#1074;&#1086;&#1090;&#1085;&#1099;&#1077;" TargetMode="External"/><Relationship Id="rId5" Type="http://schemas.openxmlformats.org/officeDocument/2006/relationships/hyperlink" Target="http://ru.wikipedia.org/wiki/&#1054;&#1073;&#1089;&#1091;&#1078;&#1076;&#1077;&#1085;&#1080;&#1077;_&#1096;&#1072;&#1073;&#1083;&#1086;&#1085;&#1072;:&#1044;&#1086;&#1084;&#1072;&#1096;&#1085;&#1080;&#1077;_&#1078;&#1080;&#1074;&#1086;&#1090;&#1085;&#1099;&#1077;" TargetMode="External"/><Relationship Id="rId6" Type="http://schemas.openxmlformats.org/officeDocument/2006/relationships/hyperlink" Target="http://ru.wikipedia.org/w/index.php?title=&#1064;&#1072;&#1073;&#1083;&#1086;&#1085;:&#1044;&#1086;&#1084;&#1072;&#1096;&#1085;&#1080;&#1077;_&#1078;&#1080;&#1074;&#1086;&#1090;&#1085;&#1099;&#1077;&amp;action=edit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1;&#1077;&#1084;&#1084;&#1080;&#1085;&#1075;" TargetMode="External"/><Relationship Id="rId2" Type="http://schemas.openxmlformats.org/officeDocument/2006/relationships/hyperlink" Target="http://ru.wikipedia.org/wiki/&#1043;&#1086;&#1088;&#1085;&#1086;&#1089;&#1090;&#1072;&#1081;" TargetMode="External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050920" y="2060280"/>
            <a:ext cx="5834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Животные</a:t>
            </a:r>
            <a:r>
              <a:rPr b="0" lang="ru-RU" sz="48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тундры</a:t>
            </a: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Выполнила ученица 7 «А» клас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МОУ СОШ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№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Борисова Кс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87200" y="-720"/>
            <a:ext cx="79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23624"/>
                </a:solidFill>
                <a:latin typeface="Tahoma"/>
              </a:rPr>
              <a:t>В северных тундрах обитает особый вид белой куропатки</a:t>
            </a:r>
            <a:r>
              <a:rPr b="0" lang="en-US" sz="1800" spc="-1" strike="noStrike">
                <a:solidFill>
                  <a:srgbClr val="e23624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622520"/>
            <a:ext cx="2050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Окраска оперения в зимний период белая, за исключением черных рулевых перьев (на их концах — белые вершинные полоски), черного клюва и темных-когтей. Стержни первостепенных маховых перьев также темные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268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Тундряная куропатка ведет преимущественно наземный образ жизни и хорошо передвигается как по твердому грунту, так и по рыхлому снег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5691240"/>
            <a:ext cx="583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195640" y="1125360"/>
            <a:ext cx="4608360" cy="4680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7020000" y="1700280"/>
            <a:ext cx="2124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Питание тундряных куропаток  весьма разнообразно. В бесснежный период основу рациона составляют семена различных растений, цветы и листья голубики, черники, андромеды, луковички гречихи живородящей, ягоды, листья и стебли вороники, ягоды черники, брусники и толокнянки, листья дриады и различных видов ив, коробочки мх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43923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На севере Евразии и Американского континента простираются просторы тундр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Пожалуй, не найти на Земле более суровых мест:зимой,когда дуют пронзительные ветры и метет колючая пурга, температура в тундре может опускаться до -4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и даже ниже, а летом не поднимается выше +10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456000" cy="26636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076720" y="3933720"/>
            <a:ext cx="3649680" cy="21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826920" y="115920"/>
            <a:ext cx="74901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Растительный покров тундры-это разнообразные лишайники, олений корм-ягель,мхи,осоки,низкорослые кустарнички и кустарники, карликовые березки, полярные ив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264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Тундра полна жизни, животный мир этой природной зоны богат и разнообразен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979640" y="1557360"/>
            <a:ext cx="5616720" cy="4498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371600" y="-2763720"/>
            <a:ext cx="7772400" cy="33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6f097"/>
                </a:solidFill>
                <a:latin typeface="Blackadder ITC"/>
              </a:rPr>
              <a:t>В тундровой зоне обитает достаточно много млекопитающих</a:t>
            </a:r>
            <a:r>
              <a:rPr b="1" i="1" lang="en-US" sz="1600" spc="-1" strike="noStrike">
                <a:solidFill>
                  <a:srgbClr val="36f097"/>
                </a:solidFill>
                <a:latin typeface="Blackadder ITC"/>
              </a:rPr>
              <a:t>: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410364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23624"/>
                </a:solidFill>
                <a:latin typeface="Tahoma"/>
              </a:rPr>
              <a:t>Белый медведь — самый крупный наземный представитель млекопитающих отряда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хищных</a:t>
            </a:r>
            <a:r>
              <a:rPr b="0" lang="en-US" sz="1600" spc="-1" strike="noStrike" u="sng">
                <a:solidFill>
                  <a:srgbClr val="e23624"/>
                </a:solidFill>
                <a:uFillTx/>
                <a:latin typeface="Tahom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56000" y="765000"/>
            <a:ext cx="4537080" cy="259272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0" y="2573280"/>
            <a:ext cx="435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08000" y="3138480"/>
            <a:ext cx="8748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Garamond"/>
              </a:rPr>
              <a:t>Несмотря на кажущуюся неповоротливость, белые медведи даже на суше быстры и ловки, а в воде легко плавают и ныряют. Очень густая, плотная шерсть защищает тело медведя от холода и намокания в ледяной воде. Важную приспособительную роль играет мощный слой подкожного жира до 10 см толщиной. Белая окраска способствует маскировке хищника. Хорошо развиты обоняние, слух и зрение — свою добычу медведь может увидеть за несколько километр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43280" y="5049000"/>
            <a:ext cx="39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Garamond"/>
              </a:rPr>
              <a:t>При случае подбирает падаль, дохлую рыбу, яйца и птенцов, может есть траву и морские водоросли, в обжитых местах питается на помойк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24000" y="4581360"/>
            <a:ext cx="3421080" cy="2276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24000" y="1658880"/>
            <a:ext cx="36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Обитает на дрейфующих морских льдах, где охотится на свою основную добычу: кольчатую нерпу, морского зайца, моржа и др. морских животных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68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68" fill="hold"/>
                                        <p:tgtEl>
                                          <p:spTgt spid="3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f097"/>
                </a:solidFill>
                <a:latin typeface="Tahoma"/>
              </a:rPr>
              <a:t>По бескрайним просторам тундры перемещается стада северных оленей в поисках лишайникового корма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i="1" lang="en-US" sz="1600" spc="-1" strike="noStrike">
                <a:solidFill>
                  <a:srgbClr val="ffff00"/>
                </a:solidFill>
                <a:latin typeface="Tahoma"/>
              </a:rPr>
              <a:t>Северный олень — мигрирующий вид. Широкие копыта позволяют перемещаться по рыхлому снегу и раскапывать его в поисках пищи. Жажду этот олень 9 месяцев в году утоляют снегом. Люди одомашнили северных оленей, изолировав часть стада диких животных. Домашние северные олени живут на полувольном выпасе, а от диких животных отличаются тем, что привыкли к людям и в случае опасности не разбегаются в стороны, а собираются вместе, надеясь на защиту людей. От оленей люди получают молоко, мясо, шерсть, рога, кости, от человека оленям нужна только сол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5003640" y="126828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273708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5" name=""/>
          <p:cNvGraphicFramePr/>
          <p:nvPr/>
        </p:nvGraphicFramePr>
        <p:xfrm>
          <a:off x="0" y="6165720"/>
          <a:ext cx="9144000" cy="9270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2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Северный олень</a:t>
                      </a:r>
                      <a:r>
                        <a:rPr b="0" i="1" lang="en-US" sz="1800" spc="-1" strike="noStrike">
                          <a:solidFill>
                            <a:srgbClr val="008080"/>
                          </a:solidFill>
                          <a:latin typeface="Edwardian Script ITC"/>
                        </a:rPr>
                        <a:t> на территории России находится на грани исчезновения и занесён в 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Edwardian Script ITC"/>
                          <a:hlinkClick r:id="rId3"/>
                        </a:rPr>
                        <a:t>Красную книгу Росс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e0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0" y="1508040"/>
          <a:ext cx="182520" cy="44845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8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[показать]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4"/>
                        </a:rPr>
                        <a:t>п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5"/>
                        </a:rPr>
                        <a:t>о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·</a:t>
                      </a:r>
                      <a:r>
                        <a:rPr b="0" lang="en-US" sz="1800" spc="-1" strike="noStrike" u="sng">
                          <a:solidFill>
                            <a:srgbClr val="a3c145"/>
                          </a:solidFill>
                          <a:uFillTx/>
                          <a:latin typeface="Arial"/>
                          <a:hlinkClick r:id="rId6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072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cc"/>
                </a:solidFill>
                <a:latin typeface="Tahoma"/>
              </a:rPr>
              <a:t>В тундре обитают мелкие грызуны-лемминги, на которых охотятся песцы и совы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270320"/>
            <a:ext cx="77058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6f097"/>
                </a:solidFill>
                <a:latin typeface="Tahoma"/>
              </a:rPr>
              <a:t>Песец</a:t>
            </a:r>
            <a:r>
              <a:rPr b="0" i="1" lang="en-US" sz="1400" spc="-1" strike="noStrike">
                <a:solidFill>
                  <a:srgbClr val="36f097"/>
                </a:solidFill>
                <a:latin typeface="Tahoma"/>
              </a:rPr>
              <a:t>.    - промысловый пушной зверь, которого иногда называют полярной лисицей.</a:t>
            </a:r>
            <a:r>
              <a:rPr b="0" lang="en-US" sz="1400" spc="-1" strike="noStrike">
                <a:solidFill>
                  <a:srgbClr val="ffff00"/>
                </a:solidFill>
                <a:latin typeface="Tahoma"/>
              </a:rPr>
              <a:t> Распространены песцы по всей тундре: к северу — до побережья океана и к югу - до северной границы леса. Летом песцы питаются в основном леммингами и полевками, а также поедают яйца, птенцов и даже взрослых птиц, в частности белых куропаток, зиме песцы жиреют, что в условиях холодной и долгой зимы является полезным приспособлением, так как зимой кормов становится меньше, голод заставляет песцов пожирать буквально все мало-мальски съедобное - водоросли, падаль, экскременты людей и животных. Примерно с ноября начинаются массовые перекочевки песцов в места, более благоприятные в отношении кормов. К весне возвращаются в тундру, роют себе новые норы или ремонтируют старые, а затем приступают к размножению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489744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0" i="1" lang="ru-RU" sz="1400" spc="-1" strike="noStrike">
                <a:solidFill>
                  <a:srgbClr val="ffff00"/>
                </a:solidFill>
                <a:latin typeface="Tahoma"/>
              </a:rPr>
              <a:t>Коротким полярным летом тундра оживает. В это время сюда прилетает  огромное количество птиц.На побережье материков и на скалистых арктических островах птицы разных видов, питающиеся морской рыбой, образуют огромные совместные населения-птичьи базары. Здесь гнездятся кайры и чистики, гагары и чай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4066920" cy="43196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4462560" y="2533680"/>
            <a:ext cx="4681440" cy="43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1155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23624"/>
                </a:solidFill>
                <a:latin typeface="Garamond"/>
              </a:rPr>
              <a:t>Белая</a:t>
            </a:r>
            <a:r>
              <a:rPr b="0" i="1" lang="en-US" sz="1800" spc="-1" strike="noStrike">
                <a:solidFill>
                  <a:srgbClr val="e23624"/>
                </a:solidFill>
                <a:latin typeface="Garamond"/>
              </a:rPr>
              <a:t> сова — самая крупная птица из отряда совообразных в тундре. Голова круглая, радужина глаз ярко-жёлт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954000"/>
            <a:ext cx="590364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Полярная сова — активный хищник. Основу её питания составляют мышевидные грызуны, в первую очередь 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лемминги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. За год одна сова съедает более 1600 леммингов. Ловит также зайцев, пищух, мелких хищников (</a:t>
            </a:r>
            <a:r>
              <a:rPr b="0" lang="en-US" sz="1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горностай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Tahoma"/>
              </a:rPr>
              <a:t>), птиц (белых куропаток, гусей, уток), не пренебрегает рыбой и падалью. Сова не охотится вблизи гнезда, поэтому птицы охотно селятся поблизости от сов, которые защищают свою территорию от других хищников. Охотится белая сова, главным образом, сидя на земле, предпочтительно на возвышении, и бросаясь на приближающуюся добычу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5181120"/>
            <a:ext cx="525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6f097"/>
                </a:solidFill>
                <a:latin typeface="Garamond"/>
              </a:rPr>
              <a:t>Брачное чтиво в марте — апреле, сопровождается сложными ухаживаниями. В некоторых районах белые совы сохраняют постоянные пары на протяжении многих лет; в других пара остаётся вместе только на время одного гнездового сезона</a:t>
            </a:r>
            <a:r>
              <a:rPr b="0" lang="en-US" sz="1600" spc="-1" strike="noStrike">
                <a:solidFill>
                  <a:srgbClr val="36f097"/>
                </a:solidFill>
                <a:latin typeface="Garamond"/>
              </a:rPr>
              <a:t>.</a:t>
            </a:r>
            <a:r>
              <a:rPr b="0" lang="en-US" sz="16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0" y="981000"/>
            <a:ext cx="3103560" cy="37562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5580000" y="3860640"/>
            <a:ext cx="3564000" cy="2997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5:48:55Z</dcterms:created>
  <dc:creator>Максим</dc:creator>
  <dc:description/>
  <dc:language>en-US</dc:language>
  <cp:lastModifiedBy>Максим</cp:lastModifiedBy>
  <dcterms:modified xsi:type="dcterms:W3CDTF">2010-12-08T19:44:59Z</dcterms:modified>
  <cp:revision>2</cp:revision>
  <dc:subject/>
  <dc:title>Животные тундры.</dc:title>
</cp:coreProperties>
</file>